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9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C4146-3357-4AF3-888C-49764EC8A2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C02B5-424E-4411-AE71-F69A47C31C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DD1B6-3E3E-4BC0-BFB1-F44C966B8A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B7697-4373-4A18-BC25-E4B7162484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77BF9-DE23-409D-B83E-D31B5A84DA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08208-EF00-4363-BAEA-50CD949FEA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57E00-A7A1-4653-9F37-DB74CBC3F3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5A822-7340-4FF3-BAD7-460597A941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7D697-05EE-40B5-B876-16B868A908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DB3A1-3FBD-4877-8552-BB721E48C2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F77A1-89D6-4F7A-9CE1-E2E109231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7B315-ABAE-4A2C-ADED-595B7E718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13858-3761-4DC2-9B2C-016C79153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6BEDB-DCB3-4D1A-B4D4-290113EEE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68320-FD30-4517-9383-92F3220EB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F3F4A-88D2-4DB6-AE67-C9D9A2F48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6DC0D-2D9A-467A-ADD7-EB422E877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CC2E2-3723-4ABF-ACDB-137A3D8CF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89FB6-CC22-41D2-82B9-87F8EE6C1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3AEA2-77D4-4810-9340-EE3287A35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64DE2-1377-4F02-AA2E-5993A0FE1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8EDF3-598E-43D3-AF3E-CA6A5C446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AE8E8-5858-44A7-BEBA-F7C833D006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22160" y="266688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ZA" sz="4400" spc="-1" strike="noStrike">
                <a:solidFill>
                  <a:srgbClr val="000000"/>
                </a:solidFill>
                <a:latin typeface="Arial"/>
              </a:rPr>
              <a:t>Monitoring Equipment Used in the Microbiology Laborat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0CF9B-C44A-4736-8EDE-17870A9C566C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06A28-93E6-4C02-9CE0-0357BD550FF0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quipment - Microbi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itor temperatures o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ub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frige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eezer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form function checks fo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pet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cla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 m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ights and mea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ntain rec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6" descr="Incubator"/>
          <p:cNvPicPr/>
          <p:nvPr/>
        </p:nvPicPr>
        <p:blipFill>
          <a:blip r:embed="rId1"/>
          <a:stretch/>
        </p:blipFill>
        <p:spPr>
          <a:xfrm>
            <a:off x="6781680" y="1219320"/>
            <a:ext cx="2114640" cy="28191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Pipettes"/>
          <p:cNvPicPr/>
          <p:nvPr/>
        </p:nvPicPr>
        <p:blipFill>
          <a:blip r:embed="rId2"/>
          <a:stretch/>
        </p:blipFill>
        <p:spPr>
          <a:xfrm>
            <a:off x="6477120" y="4267080"/>
            <a:ext cx="2361960" cy="22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FA17B-9D72-4CD7-8625-1F2423902E30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Object 2"/>
          <p:cNvGraphicFramePr/>
          <p:nvPr/>
        </p:nvGraphicFramePr>
        <p:xfrm>
          <a:off x="1220760" y="1600200"/>
          <a:ext cx="670248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0760" y="1600200"/>
                    <a:ext cx="670248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84AB9-9EC1-4B86-9A1A-8B21F9E86AA5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eril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2"/>
          <p:cNvSpPr/>
          <p:nvPr/>
        </p:nvSpPr>
        <p:spPr>
          <a:xfrm>
            <a:off x="6783840" y="1295280"/>
            <a:ext cx="1458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ter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re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ater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3"/>
          <p:cNvSpPr/>
          <p:nvPr/>
        </p:nvSpPr>
        <p:spPr>
          <a:xfrm>
            <a:off x="6707520" y="4800600"/>
            <a:ext cx="1782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af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disposab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was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5"/>
          <p:cNvSpPr/>
          <p:nvPr/>
        </p:nvSpPr>
        <p:spPr>
          <a:xfrm>
            <a:off x="838080" y="1295280"/>
            <a:ext cx="15433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Prepa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re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ater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6"/>
          <p:cNvSpPr/>
          <p:nvPr/>
        </p:nvSpPr>
        <p:spPr>
          <a:xfrm>
            <a:off x="457200" y="4952880"/>
            <a:ext cx="297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Contaminated was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8" descr="Autoclave1"/>
          <p:cNvPicPr/>
          <p:nvPr/>
        </p:nvPicPr>
        <p:blipFill>
          <a:blip r:embed="rId1"/>
          <a:stretch/>
        </p:blipFill>
        <p:spPr>
          <a:xfrm>
            <a:off x="3124080" y="2362320"/>
            <a:ext cx="2286000" cy="3047760"/>
          </a:xfrm>
          <a:prstGeom prst="rect">
            <a:avLst/>
          </a:prstGeom>
          <a:ln w="0">
            <a:noFill/>
          </a:ln>
        </p:spPr>
      </p:pic>
      <p:sp>
        <p:nvSpPr>
          <p:cNvPr id="66" name="AutoShape 27"/>
          <p:cNvSpPr/>
          <p:nvPr/>
        </p:nvSpPr>
        <p:spPr>
          <a:xfrm>
            <a:off x="2666880" y="1676520"/>
            <a:ext cx="3886200" cy="83808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28"/>
          <p:cNvSpPr/>
          <p:nvPr/>
        </p:nvSpPr>
        <p:spPr>
          <a:xfrm>
            <a:off x="2666880" y="5105520"/>
            <a:ext cx="3886200" cy="83808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9B0C6-BF80-4929-8F06-AE4275611434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wo Stage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erilization Contro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73152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3300"/>
                </a:solidFill>
                <a:latin typeface="Arial"/>
              </a:rPr>
              <a:t>Process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hemical indic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acteriological indic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3300"/>
                </a:solidFill>
                <a:latin typeface="Arial"/>
              </a:rPr>
              <a:t>Sterile products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rowth t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859E3-CD8E-446A-85B3-A36B00189436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rilization indica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3" descr="indicateurs-chimiques"/>
          <p:cNvPicPr/>
          <p:nvPr/>
        </p:nvPicPr>
        <p:blipFill>
          <a:blip r:embed="rId1"/>
          <a:stretch/>
        </p:blipFill>
        <p:spPr>
          <a:xfrm>
            <a:off x="1905120" y="1828800"/>
            <a:ext cx="2286000" cy="17146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" descr="indicateurs-biologiques"/>
          <p:cNvPicPr/>
          <p:nvPr/>
        </p:nvPicPr>
        <p:blipFill>
          <a:blip r:embed="rId2"/>
          <a:stretch/>
        </p:blipFill>
        <p:spPr>
          <a:xfrm>
            <a:off x="4952880" y="1676520"/>
            <a:ext cx="2514600" cy="19047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6" descr="mediawebserver"/>
          <p:cNvPicPr/>
          <p:nvPr/>
        </p:nvPicPr>
        <p:blipFill>
          <a:blip r:embed="rId3"/>
          <a:stretch/>
        </p:blipFill>
        <p:spPr>
          <a:xfrm>
            <a:off x="4876920" y="4114800"/>
            <a:ext cx="1623960" cy="16765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2" descr="ds_m_01_Autoclave2"/>
          <p:cNvPicPr/>
          <p:nvPr/>
        </p:nvPicPr>
        <p:blipFill>
          <a:blip r:embed="rId4"/>
          <a:stretch/>
        </p:blipFill>
        <p:spPr>
          <a:xfrm>
            <a:off x="2666880" y="457200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0" descr="autoclave%20tape%20steam"/>
          <p:cNvPicPr/>
          <p:nvPr/>
        </p:nvPicPr>
        <p:blipFill>
          <a:blip r:embed="rId5"/>
          <a:stretch/>
        </p:blipFill>
        <p:spPr>
          <a:xfrm>
            <a:off x="1066680" y="4038480"/>
            <a:ext cx="167652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Slide Number Placeholder 4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EC9B0-2A49-4872-B268-CEDEECD27ED8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erility Indica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343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Chemical indicator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mperature for sterilization have been met.  Do not address time or press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7960" y="1295280"/>
            <a:ext cx="426708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Arial"/>
              </a:rPr>
              <a:t>Biological indic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mperature, time and pressure for sterilization have been m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8"/>
          <p:cNvSpPr/>
          <p:nvPr/>
        </p:nvSpPr>
        <p:spPr>
          <a:xfrm>
            <a:off x="1371600" y="3962520"/>
            <a:ext cx="6477120" cy="213336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NOT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Neither indicator is a guarantee of sterilization i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Autoclave is overpack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Broth volumes are too lar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41830-D88B-4225-A843-EB0BB6007FD2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"/>
          <p:cNvPicPr/>
          <p:nvPr/>
        </p:nvPicPr>
        <p:blipFill>
          <a:blip r:embed="rId1"/>
          <a:srcRect l="0" t="0" r="0" b="40007"/>
          <a:stretch/>
        </p:blipFill>
        <p:spPr>
          <a:xfrm>
            <a:off x="304920" y="1600200"/>
            <a:ext cx="8534160" cy="41148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rilization Logbo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B92F1-EA6D-4B52-95C1-391172BE4696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crosco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4060_research_large"/>
          <p:cNvPicPr/>
          <p:nvPr/>
        </p:nvPicPr>
        <p:blipFill>
          <a:blip r:embed="rId1"/>
          <a:stretch/>
        </p:blipFill>
        <p:spPr>
          <a:xfrm>
            <a:off x="457200" y="1676520"/>
            <a:ext cx="3522600" cy="4016160"/>
          </a:xfrm>
          <a:prstGeom prst="rect">
            <a:avLst/>
          </a:prstGeom>
          <a:ln w="0">
            <a:noFill/>
          </a:ln>
        </p:spPr>
      </p:pic>
      <p:sp>
        <p:nvSpPr>
          <p:cNvPr id="89" name="Text Box 5"/>
          <p:cNvSpPr/>
          <p:nvPr/>
        </p:nvSpPr>
        <p:spPr>
          <a:xfrm>
            <a:off x="4114800" y="1677960"/>
            <a:ext cx="4343400" cy="448308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Keep lens 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Have at least one oil                          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immersion lens (X1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Use spring loaded l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Keep non-immersion lens free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of o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Do not allow sample to migrate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above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 the l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00ff00"/>
                </a:solidFill>
                <a:latin typeface="Arial Narrow"/>
              </a:rPr>
              <a:t>Maintain Kohler Illumination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 Narrow"/>
              <a:buChar char="•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2T03:48:55Z</dcterms:created>
  <dc:creator>Robin Barteluk</dc:creator>
  <dc:description/>
  <dc:language>en-US</dc:language>
  <cp:lastModifiedBy>WHO</cp:lastModifiedBy>
  <dcterms:modified xsi:type="dcterms:W3CDTF">2009-04-02T09:02:42Z</dcterms:modified>
  <cp:revision>2</cp:revision>
  <dc:subject/>
  <dc:title>Slide 1</dc:title>
</cp:coreProperties>
</file>